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wmf" ContentType="image/x-wmf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68B7-12FC-49F3-966E-66CB044A3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CA7F-5397-47E0-8123-64AE2626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8A01-E93E-4CD9-9EF0-9CEE0C740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442D-5746-403E-8A72-C51403153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1BFF9-267A-48F4-9D53-42A33B93B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5696-6B72-49DB-865A-0BC81C6A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C80D-A3A5-4827-A873-7EAA8CC3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0699-21CE-4C31-B539-8FFA25DF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C30D-E8DD-4795-B77E-48EE86E6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8EB6-D4F9-4958-AD30-C90E0713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A418-8EA7-48A4-8DE8-590D661B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2E02-5FBF-4FCF-9BC7-515EA495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BDA0-8644-40C7-86AF-878E7FF4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137C-9FD0-432C-8098-B2AD0FDC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BA9A-E874-4D82-B5FD-ED5CA9E6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E57C-EA18-46EC-A44E-A0047199C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BFCB-06A5-4D80-9DFC-4B08B58B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C209-9428-4054-A82C-AA796C5E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9450-D50E-44F0-A994-07CDA656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197F-2F75-4156-9947-A79555B5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C1D1-9058-4D91-B0AF-2C1636DB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A918-4084-41DD-B787-8FA68342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4753-F33F-420D-BF55-648E8F3D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6BCF-2D48-4DA2-8C53-C28A9873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0CE2-FA6C-4AE2-9BFD-23BD47E8499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A522-4AB5-4BD8-9D85-677C1A944C1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" Target="slide54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" Target="slide15.xm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1273320"/>
            <a:ext cx="842472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男性，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45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岁，因于当日清晨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4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时在为火炉添煤时，昏倒在屋子里，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小时后方被人发现，急诊入院。患者既往身体健康。体检：体温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37.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５℃，呼吸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24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次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/min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脉搏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10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次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/min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血压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00/70mmHg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神志不清，口唇樱桃红色，其他无异常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实验室检查：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95mmHg ,HbCO30,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入院后立即吸氧，不久渐醒。给予纠酸、补液等处理后，病情迅速好转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86900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试分析：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1)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是什么原因引起患者昏迷和神志不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2)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该患者呼吸和心率加快又是如何引起的 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1295280" y="914400"/>
            <a:ext cx="5689440" cy="5553360"/>
            <a:chOff x="1295280" y="914400"/>
            <a:chExt cx="5689440" cy="5553360"/>
          </a:xfrm>
        </p:grpSpPr>
        <p:grpSp>
          <p:nvGrpSpPr>
            <p:cNvPr id="171" name=""/>
            <p:cNvGrpSpPr/>
            <p:nvPr/>
          </p:nvGrpSpPr>
          <p:grpSpPr>
            <a:xfrm>
              <a:off x="2311200" y="914400"/>
              <a:ext cx="4673160" cy="5154120"/>
              <a:chOff x="2311200" y="914400"/>
              <a:chExt cx="4673160" cy="5154120"/>
            </a:xfrm>
          </p:grpSpPr>
          <p:sp>
            <p:nvSpPr>
              <p:cNvPr id="172" name=""/>
              <p:cNvSpPr/>
              <p:nvPr/>
            </p:nvSpPr>
            <p:spPr>
              <a:xfrm>
                <a:off x="2311200" y="914400"/>
                <a:ext cx="0" cy="5154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311200" y="6068520"/>
                <a:ext cx="46731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311200" y="513144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311200" y="419400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311200" y="325692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311200" y="231984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311200" y="138240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12372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93660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74912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56164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37488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1295280" y="1031040"/>
              <a:ext cx="101592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8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6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4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2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19160" y="6068880"/>
              <a:ext cx="416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zh-CN" sz="2000" spc="-1" strike="noStrike">
                  <a:solidFill>
                    <a:srgbClr val="ffffff"/>
                  </a:solidFill>
                  <a:latin typeface="Tahoma"/>
                </a:rPr>
                <a:t>20      40      60       80       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340000" y="981000"/>
            <a:ext cx="4114800" cy="4924440"/>
          </a:xfrm>
          <a:custGeom>
            <a:avLst/>
            <a:gdLst/>
            <a:ahLst/>
            <a:rect l="l" t="t" r="r" b="b"/>
            <a:pathLst>
              <a:path w="1924" h="1924">
                <a:moveTo>
                  <a:pt x="0" y="1924"/>
                </a:moveTo>
                <a:cubicBezTo>
                  <a:pt x="24" y="1876"/>
                  <a:pt x="109" y="1712"/>
                  <a:pt x="144" y="1636"/>
                </a:cubicBezTo>
                <a:cubicBezTo>
                  <a:pt x="179" y="1560"/>
                  <a:pt x="185" y="1532"/>
                  <a:pt x="209" y="1466"/>
                </a:cubicBezTo>
                <a:cubicBezTo>
                  <a:pt x="233" y="1400"/>
                  <a:pt x="270" y="1298"/>
                  <a:pt x="288" y="1243"/>
                </a:cubicBezTo>
                <a:cubicBezTo>
                  <a:pt x="306" y="1188"/>
                  <a:pt x="296" y="1209"/>
                  <a:pt x="314" y="1139"/>
                </a:cubicBezTo>
                <a:cubicBezTo>
                  <a:pt x="332" y="1069"/>
                  <a:pt x="359" y="944"/>
                  <a:pt x="394" y="820"/>
                </a:cubicBezTo>
                <a:cubicBezTo>
                  <a:pt x="429" y="696"/>
                  <a:pt x="463" y="496"/>
                  <a:pt x="524" y="392"/>
                </a:cubicBezTo>
                <a:cubicBezTo>
                  <a:pt x="585" y="288"/>
                  <a:pt x="663" y="248"/>
                  <a:pt x="759" y="196"/>
                </a:cubicBezTo>
                <a:cubicBezTo>
                  <a:pt x="855" y="144"/>
                  <a:pt x="1002" y="106"/>
                  <a:pt x="1100" y="78"/>
                </a:cubicBezTo>
                <a:cubicBezTo>
                  <a:pt x="1198" y="50"/>
                  <a:pt x="1277" y="38"/>
                  <a:pt x="1348" y="26"/>
                </a:cubicBezTo>
                <a:cubicBezTo>
                  <a:pt x="1419" y="14"/>
                  <a:pt x="1432" y="8"/>
                  <a:pt x="1528" y="4"/>
                </a:cubicBezTo>
                <a:cubicBezTo>
                  <a:pt x="1624" y="0"/>
                  <a:pt x="1842" y="1"/>
                  <a:pt x="1924" y="0"/>
                </a:cubicBezTo>
              </a:path>
            </a:pathLst>
          </a:custGeom>
          <a:noFill/>
          <a:ln w="3168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1197000"/>
            <a:ext cx="3744720" cy="4822920"/>
          </a:xfrm>
          <a:custGeom>
            <a:avLst/>
            <a:gdLst/>
            <a:ahLst/>
            <a:rect l="l" t="t" r="r" b="b"/>
            <a:pathLst>
              <a:path w="1894" h="1885">
                <a:moveTo>
                  <a:pt x="0" y="1885"/>
                </a:moveTo>
                <a:cubicBezTo>
                  <a:pt x="23" y="1859"/>
                  <a:pt x="106" y="1776"/>
                  <a:pt x="140" y="1728"/>
                </a:cubicBezTo>
                <a:cubicBezTo>
                  <a:pt x="174" y="1680"/>
                  <a:pt x="180" y="1645"/>
                  <a:pt x="205" y="1597"/>
                </a:cubicBezTo>
                <a:cubicBezTo>
                  <a:pt x="230" y="1549"/>
                  <a:pt x="264" y="1490"/>
                  <a:pt x="288" y="1440"/>
                </a:cubicBezTo>
                <a:cubicBezTo>
                  <a:pt x="312" y="1390"/>
                  <a:pt x="333" y="1339"/>
                  <a:pt x="349" y="1296"/>
                </a:cubicBezTo>
                <a:cubicBezTo>
                  <a:pt x="365" y="1253"/>
                  <a:pt x="363" y="1243"/>
                  <a:pt x="384" y="1183"/>
                </a:cubicBezTo>
                <a:cubicBezTo>
                  <a:pt x="405" y="1123"/>
                  <a:pt x="447" y="1009"/>
                  <a:pt x="476" y="938"/>
                </a:cubicBezTo>
                <a:cubicBezTo>
                  <a:pt x="505" y="867"/>
                  <a:pt x="534" y="811"/>
                  <a:pt x="559" y="759"/>
                </a:cubicBezTo>
                <a:cubicBezTo>
                  <a:pt x="584" y="707"/>
                  <a:pt x="582" y="690"/>
                  <a:pt x="624" y="628"/>
                </a:cubicBezTo>
                <a:cubicBezTo>
                  <a:pt x="666" y="566"/>
                  <a:pt x="752" y="443"/>
                  <a:pt x="809" y="384"/>
                </a:cubicBezTo>
                <a:cubicBezTo>
                  <a:pt x="866" y="325"/>
                  <a:pt x="911" y="307"/>
                  <a:pt x="969" y="275"/>
                </a:cubicBezTo>
                <a:cubicBezTo>
                  <a:pt x="1027" y="243"/>
                  <a:pt x="1050" y="230"/>
                  <a:pt x="1155" y="192"/>
                </a:cubicBezTo>
                <a:cubicBezTo>
                  <a:pt x="1260" y="154"/>
                  <a:pt x="1475" y="80"/>
                  <a:pt x="1598" y="48"/>
                </a:cubicBezTo>
                <a:cubicBezTo>
                  <a:pt x="1721" y="16"/>
                  <a:pt x="1845" y="8"/>
                  <a:pt x="1894" y="0"/>
                </a:cubicBezTo>
              </a:path>
            </a:pathLst>
          </a:custGeom>
          <a:noFill/>
          <a:ln w="31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40000" y="1628640"/>
            <a:ext cx="4064040" cy="4367520"/>
          </a:xfrm>
          <a:custGeom>
            <a:avLst/>
            <a:gdLst/>
            <a:ahLst/>
            <a:rect l="l" t="t" r="r" b="b"/>
            <a:pathLst>
              <a:path w="1920" h="1789">
                <a:moveTo>
                  <a:pt x="0" y="1789"/>
                </a:moveTo>
                <a:cubicBezTo>
                  <a:pt x="35" y="1771"/>
                  <a:pt x="166" y="1724"/>
                  <a:pt x="225" y="1682"/>
                </a:cubicBezTo>
                <a:cubicBezTo>
                  <a:pt x="284" y="1640"/>
                  <a:pt x="317" y="1575"/>
                  <a:pt x="356" y="1535"/>
                </a:cubicBezTo>
                <a:cubicBezTo>
                  <a:pt x="396" y="1495"/>
                  <a:pt x="425" y="1486"/>
                  <a:pt x="463" y="1442"/>
                </a:cubicBezTo>
                <a:cubicBezTo>
                  <a:pt x="500" y="1398"/>
                  <a:pt x="536" y="1342"/>
                  <a:pt x="582" y="1269"/>
                </a:cubicBezTo>
                <a:cubicBezTo>
                  <a:pt x="629" y="1195"/>
                  <a:pt x="694" y="1086"/>
                  <a:pt x="741" y="1002"/>
                </a:cubicBezTo>
                <a:cubicBezTo>
                  <a:pt x="788" y="917"/>
                  <a:pt x="823" y="834"/>
                  <a:pt x="860" y="761"/>
                </a:cubicBezTo>
                <a:cubicBezTo>
                  <a:pt x="898" y="687"/>
                  <a:pt x="933" y="621"/>
                  <a:pt x="967" y="561"/>
                </a:cubicBezTo>
                <a:cubicBezTo>
                  <a:pt x="1000" y="501"/>
                  <a:pt x="1023" y="450"/>
                  <a:pt x="1059" y="401"/>
                </a:cubicBezTo>
                <a:cubicBezTo>
                  <a:pt x="1094" y="352"/>
                  <a:pt x="1137" y="305"/>
                  <a:pt x="1178" y="267"/>
                </a:cubicBezTo>
                <a:cubicBezTo>
                  <a:pt x="1220" y="229"/>
                  <a:pt x="1264" y="198"/>
                  <a:pt x="1311" y="173"/>
                </a:cubicBezTo>
                <a:cubicBezTo>
                  <a:pt x="1357" y="149"/>
                  <a:pt x="1406" y="138"/>
                  <a:pt x="1457" y="120"/>
                </a:cubicBezTo>
                <a:cubicBezTo>
                  <a:pt x="1507" y="103"/>
                  <a:pt x="1538" y="87"/>
                  <a:pt x="1615" y="66"/>
                </a:cubicBezTo>
                <a:cubicBezTo>
                  <a:pt x="1692" y="46"/>
                  <a:pt x="1857" y="14"/>
                  <a:pt x="1920" y="0"/>
                </a:cubicBezTo>
              </a:path>
            </a:pathLst>
          </a:custGeom>
          <a:noFill/>
          <a:ln w="3168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21040" y="2443320"/>
            <a:ext cx="203040" cy="234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43400" y="4200480"/>
            <a:ext cx="203040" cy="23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17640" y="685800"/>
            <a:ext cx="2133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2,3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DPG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zh-CN" sz="1800" spc="-1" strike="noStrike" baseline="30000">
                <a:solidFill>
                  <a:srgbClr val="ffffff"/>
                </a:solidFill>
                <a:latin typeface="Tahoma"/>
              </a:rPr>
              <a:t>＋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↓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zh-CN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温度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49840" y="3732120"/>
            <a:ext cx="2133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2,3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DPG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zh-CN" sz="1800" spc="-1" strike="noStrike" baseline="30000">
                <a:solidFill>
                  <a:srgbClr val="ffffff"/>
                </a:solidFill>
                <a:latin typeface="Tahoma"/>
              </a:rPr>
              <a:t>＋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↑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zh-CN" sz="1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温度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333360"/>
            <a:ext cx="10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氧饱和度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268360" y="2781360"/>
            <a:ext cx="1295640" cy="381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64000" y="2781360"/>
            <a:ext cx="17280" cy="33145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6278400"/>
            <a:ext cx="914400" cy="64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P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43640" y="4683240"/>
            <a:ext cx="2232000" cy="906480"/>
          </a:xfrm>
          <a:prstGeom prst="borderCallout1">
            <a:avLst>
              <a:gd name="adj1" fmla="val 18750"/>
              <a:gd name="adj2" fmla="val -8333"/>
              <a:gd name="adj3" fmla="val 170578"/>
              <a:gd name="adj4" fmla="val -100782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血红蛋白与氧的亲和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14400" y="3017880"/>
            <a:ext cx="7543800" cy="16779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供氧减少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或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用氧障碍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引起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细胞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功能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代谢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形态结构改变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病理过程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03280" y="1052640"/>
            <a:ext cx="7272360" cy="129672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缺氧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/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低氧（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hypoxia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1447920"/>
            <a:ext cx="7315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第二节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缺氧的类型、原因和发病机制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093080" y="242100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7680" y="2205000"/>
            <a:ext cx="1030320" cy="58140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空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40720" y="1773360"/>
            <a:ext cx="1085760" cy="10688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细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47640" y="2205000"/>
            <a:ext cx="1511640" cy="58140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外呼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43280" y="24922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16000" y="256536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16160" y="6922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缺氧的类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2240" y="344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348000" y="2852640"/>
            <a:ext cx="1828800" cy="1800720"/>
            <a:chOff x="3348000" y="2852640"/>
            <a:chExt cx="1828800" cy="1800720"/>
          </a:xfrm>
        </p:grpSpPr>
        <p:sp>
          <p:nvSpPr>
            <p:cNvPr id="211" name=""/>
            <p:cNvSpPr/>
            <p:nvPr/>
          </p:nvSpPr>
          <p:spPr>
            <a:xfrm>
              <a:off x="4414680" y="2852640"/>
              <a:ext cx="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48000" y="3462120"/>
              <a:ext cx="182880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血液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508720" y="2781360"/>
            <a:ext cx="1752480" cy="1838880"/>
            <a:chOff x="5508720" y="2781360"/>
            <a:chExt cx="1752480" cy="1838880"/>
          </a:xfrm>
        </p:grpSpPr>
        <p:sp>
          <p:nvSpPr>
            <p:cNvPr id="214" name=""/>
            <p:cNvSpPr/>
            <p:nvPr/>
          </p:nvSpPr>
          <p:spPr>
            <a:xfrm>
              <a:off x="6443640" y="2781360"/>
              <a:ext cx="0" cy="63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08720" y="3429000"/>
              <a:ext cx="175248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循环性 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84360" y="2997360"/>
            <a:ext cx="1752480" cy="1626480"/>
            <a:chOff x="684360" y="2997360"/>
            <a:chExt cx="1752480" cy="1626480"/>
          </a:xfrm>
        </p:grpSpPr>
        <p:sp>
          <p:nvSpPr>
            <p:cNvPr id="217" name=""/>
            <p:cNvSpPr/>
            <p:nvPr/>
          </p:nvSpPr>
          <p:spPr>
            <a:xfrm>
              <a:off x="684360" y="3432600"/>
              <a:ext cx="175248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低张性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70160" y="299736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7764480" y="2781360"/>
            <a:ext cx="1076400" cy="1770840"/>
            <a:chOff x="7764480" y="2781360"/>
            <a:chExt cx="1076400" cy="1770840"/>
          </a:xfrm>
        </p:grpSpPr>
        <p:sp>
          <p:nvSpPr>
            <p:cNvPr id="220" name=""/>
            <p:cNvSpPr/>
            <p:nvPr/>
          </p:nvSpPr>
          <p:spPr>
            <a:xfrm flipH="1">
              <a:off x="8244000" y="2781360"/>
              <a:ext cx="33120" cy="66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764480" y="3360960"/>
              <a:ext cx="107640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组织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371760" y="1876320"/>
            <a:ext cx="1981440" cy="1203480"/>
            <a:chOff x="3371760" y="1876320"/>
            <a:chExt cx="1981440" cy="1203480"/>
          </a:xfrm>
        </p:grpSpPr>
        <p:sp>
          <p:nvSpPr>
            <p:cNvPr id="223" name=""/>
            <p:cNvSpPr/>
            <p:nvPr/>
          </p:nvSpPr>
          <p:spPr>
            <a:xfrm>
              <a:off x="3371760" y="1876320"/>
              <a:ext cx="1981440" cy="12034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  <a:effectLst>
              <a:outerShdw dist="17819" dir="2700000" blurRad="0" rotWithShape="0">
                <a:srgbClr val="98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+Hb    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HbO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00360" y="26380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5962680" y="1800360"/>
            <a:ext cx="1130400" cy="1068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液循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92720" y="2421000"/>
            <a:ext cx="600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64560" y="692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供氧用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一）定义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华文新魏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为特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9144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低张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71640" y="3789360"/>
            <a:ext cx="67816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，又称低张性低氧血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39640" y="2060640"/>
            <a:ext cx="7772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吸入气中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PO</a:t>
            </a:r>
            <a:r>
              <a:rPr b="0" lang="zh-CN" sz="4000" spc="-1" strike="noStrike" baseline="-25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过低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3284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呼吸功能障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9280" y="429264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静脉血分流入动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二）原因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867280" y="2205000"/>
          <a:ext cx="193212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205000"/>
                    <a:ext cx="193212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5867280" y="2205000"/>
          <a:ext cx="1955880" cy="27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2205000"/>
                    <a:ext cx="195588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>
            <a:hlinkClick r:id="rId5" action="ppaction://hlinksldjump"/>
          </p:cNvPr>
          <p:cNvSpPr/>
          <p:nvPr/>
        </p:nvSpPr>
        <p:spPr>
          <a:xfrm>
            <a:off x="5416560" y="2171880"/>
            <a:ext cx="184320" cy="641160"/>
          </a:xfrm>
          <a:custGeom>
            <a:avLst/>
            <a:gdLst>
              <a:gd name="textAreaLeft" fmla="*/ 11880 w 184320"/>
              <a:gd name="textAreaRight" fmla="*/ 172440 w 184320"/>
              <a:gd name="textAreaTop" fmla="*/ 11880 h 641160"/>
              <a:gd name="textAreaBottom" fmla="*/ 629280 h 641160"/>
            </a:gdLst>
            <a:ahLst/>
            <a:rect l="textAreaLeft" t="textAreaTop" r="textAreaRight" b="textAreaBottom"/>
            <a:pathLst>
              <a:path w="21600" h="75032">
                <a:moveTo>
                  <a:pt x="0" y="0"/>
                </a:moveTo>
                <a:lnTo>
                  <a:pt x="21600" y="0"/>
                </a:lnTo>
                <a:lnTo>
                  <a:pt x="21600" y="75032"/>
                </a:lnTo>
                <a:lnTo>
                  <a:pt x="0" y="75032"/>
                </a:lnTo>
                <a:close/>
              </a:path>
              <a:path fill="lightenLess" w="21600" h="75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5032">
                <a:moveTo>
                  <a:pt x="21600" y="0"/>
                </a:moveTo>
                <a:lnTo>
                  <a:pt x="21600" y="75032"/>
                </a:lnTo>
                <a:lnTo>
                  <a:pt x="20200" y="73632"/>
                </a:lnTo>
                <a:lnTo>
                  <a:pt x="20200" y="1400"/>
                </a:lnTo>
                <a:close/>
              </a:path>
              <a:path fill="darkenLess" w="21600" h="75032">
                <a:moveTo>
                  <a:pt x="21600" y="75032"/>
                </a:moveTo>
                <a:lnTo>
                  <a:pt x="0" y="75032"/>
                </a:lnTo>
                <a:lnTo>
                  <a:pt x="1400" y="73632"/>
                </a:lnTo>
                <a:lnTo>
                  <a:pt x="20200" y="73632"/>
                </a:lnTo>
                <a:close/>
              </a:path>
              <a:path fill="lighten" w="21600" h="75032">
                <a:moveTo>
                  <a:pt x="0" y="75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73632"/>
                </a:lnTo>
                <a:close/>
              </a:path>
              <a:path fill="darken" w="21600" h="75032">
                <a:moveTo>
                  <a:pt x="3794" y="30509"/>
                </a:moveTo>
                <a:lnTo>
                  <a:pt x="17806" y="37516"/>
                </a:lnTo>
                <a:lnTo>
                  <a:pt x="3794" y="445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655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50920" y="2205000"/>
          <a:ext cx="8424720" cy="1009800"/>
        </p:xfrm>
        <a:graphic>
          <a:graphicData uri="http://schemas.openxmlformats.org/drawingml/2006/table">
            <a:tbl>
              <a:tblPr/>
              <a:tblGrid>
                <a:gridCol w="1638360"/>
                <a:gridCol w="1139760"/>
                <a:gridCol w="1852560"/>
                <a:gridCol w="1230120"/>
                <a:gridCol w="1132200"/>
                <a:gridCol w="143172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-V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250920" y="3213000"/>
          <a:ext cx="8424720" cy="1065240"/>
        </p:xfrm>
        <a:graphic>
          <a:graphicData uri="http://schemas.openxmlformats.org/drawingml/2006/table">
            <a:tbl>
              <a:tblPr/>
              <a:tblGrid>
                <a:gridCol w="1584360"/>
                <a:gridCol w="1141200"/>
                <a:gridCol w="1865520"/>
                <a:gridCol w="1252440"/>
                <a:gridCol w="1139760"/>
                <a:gridCol w="1441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908000" y="2492280"/>
            <a:ext cx="1346400" cy="476280"/>
          </a:xfrm>
          <a:prstGeom prst="rect">
            <a:avLst/>
          </a:pr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108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08000" y="2997360"/>
            <a:ext cx="1346400" cy="2244600"/>
          </a:xfrm>
          <a:prstGeom prst="rect">
            <a:avLst/>
          </a:prstGeom>
          <a:gradFill rotWithShape="0">
            <a:gsLst>
              <a:gs pos="0">
                <a:srgbClr val="8f4949"/>
              </a:gs>
              <a:gs pos="50000">
                <a:srgbClr val="ff8383"/>
              </a:gs>
              <a:gs pos="100000">
                <a:srgbClr val="8f4949"/>
              </a:gs>
            </a:gsLst>
            <a:lin ang="10800000"/>
          </a:gradFill>
          <a:ln w="9360">
            <a:solidFill>
              <a:srgbClr val="ff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19640" y="4076640"/>
            <a:ext cx="1266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b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2406600"/>
            <a:ext cx="19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2.6g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6560" y="5454720"/>
            <a:ext cx="12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正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35640" y="2421000"/>
            <a:ext cx="3249720" cy="2666880"/>
            <a:chOff x="5435640" y="2421000"/>
            <a:chExt cx="3249720" cy="2666880"/>
          </a:xfrm>
        </p:grpSpPr>
        <p:sp>
          <p:nvSpPr>
            <p:cNvPr id="249" name=""/>
            <p:cNvSpPr/>
            <p:nvPr/>
          </p:nvSpPr>
          <p:spPr>
            <a:xfrm>
              <a:off x="5435640" y="3564000"/>
              <a:ext cx="1295640" cy="1523880"/>
            </a:xfrm>
            <a:prstGeom prst="rect">
              <a:avLst/>
            </a:prstGeom>
            <a:gradFill rotWithShape="0">
              <a:gsLst>
                <a:gs pos="0">
                  <a:srgbClr val="8f4949"/>
                </a:gs>
                <a:gs pos="50000">
                  <a:srgbClr val="ff8383"/>
                </a:gs>
                <a:gs pos="100000">
                  <a:srgbClr val="8f4949"/>
                </a:gs>
              </a:gsLst>
              <a:lin ang="10800000"/>
            </a:gradFill>
            <a:ln w="9360">
              <a:solidFill>
                <a:srgbClr val="ff8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35640" y="2421000"/>
              <a:ext cx="1295640" cy="1143000"/>
            </a:xfrm>
            <a:prstGeom prst="rect">
              <a:avLst/>
            </a:prstGeom>
            <a:gradFill rotWithShape="0">
              <a:gsLst>
                <a:gs pos="0">
                  <a:srgbClr val="461700"/>
                </a:gs>
                <a:gs pos="50000">
                  <a:srgbClr val="993300"/>
                </a:gs>
                <a:gs pos="100000">
                  <a:srgbClr val="461700"/>
                </a:gs>
              </a:gsLst>
              <a:lin ang="10800000"/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26360" y="287820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08840" y="260820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≥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5g/d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716360" y="5445000"/>
            <a:ext cx="24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低张性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（四）表现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19640" y="2565360"/>
            <a:ext cx="11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H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3881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42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发绀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cyanosis)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842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毛细血管中脱氧血红蛋白≥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5g/dl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使皮肤、黏膜呈青紫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00720" y="981000"/>
            <a:ext cx="4105080" cy="34862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763640" y="4869000"/>
            <a:ext cx="5184720" cy="119124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缺氧不一定都有发绀，发绀也不一定都有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80880" y="22860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0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一） 定义 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数量↓或性质改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47640" y="3573360"/>
            <a:ext cx="6782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不变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，又称等张性低氧血症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106668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血液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8360" y="1700280"/>
            <a:ext cx="8305920" cy="28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第五章 缺  氧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华文新魏"/>
              </a:rPr>
              <a:t>Hypoxia</a:t>
            </a:r>
            <a:r>
              <a:rPr b="0" lang="zh-CN" sz="6000" spc="-1" strike="noStrike">
                <a:solidFill>
                  <a:srgbClr val="ff9900"/>
                </a:solidFill>
                <a:latin typeface="Times New Roman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</a:t>
            </a:r>
            <a:r>
              <a:rPr b="1" lang="zh-CN" sz="4400" spc="-1" strike="noStrike">
                <a:solidFill>
                  <a:srgbClr val="66ff33"/>
                </a:solidFill>
                <a:latin typeface="华文新魏"/>
                <a:ea typeface="华文新魏"/>
              </a:rPr>
              <a:t>二）原因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4648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2.</a:t>
            </a:r>
            <a:r>
              <a:rPr b="0" lang="zh-CN" sz="4000" spc="-1" strike="noStrike">
                <a:solidFill>
                  <a:srgbClr val="f9f42e"/>
                </a:solidFill>
                <a:latin typeface="Arial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Hb</a:t>
            </a:r>
            <a:r>
              <a:rPr b="1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性质改变：</a:t>
            </a:r>
            <a:r>
              <a:rPr b="1" lang="zh-CN" sz="4000" spc="-1" strike="noStrike">
                <a:solidFill>
                  <a:srgbClr val="fc2cf2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1905120"/>
            <a:ext cx="8381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90680" indent="-457200">
              <a:lnSpc>
                <a:spcPct val="100000"/>
              </a:lnSpc>
              <a:spcBef>
                <a:spcPts val="1001"/>
              </a:spcBef>
              <a:buClr>
                <a:srgbClr val="00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Hb</a:t>
            </a:r>
            <a:r>
              <a:rPr b="1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数量减少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9068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贫血最常见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苍白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68360" y="1052640"/>
            <a:ext cx="8675640" cy="50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Wingdings"/>
                <a:ea typeface="Wingdings"/>
              </a:rPr>
              <a:t>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CO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中毒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HbCO: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亲和力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;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抑制糖酵解，氧离曲线左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和血红素的亲和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皮肤粘膜：樱桃红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838080" y="990720"/>
            <a:ext cx="70106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Wingdings"/>
                <a:ea typeface="Wingdings"/>
              </a:rPr>
              <a:t>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高铁血红蛋白血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67720" y="4572000"/>
            <a:ext cx="178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肠源性发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477120" y="2514600"/>
            <a:ext cx="1662120" cy="2501640"/>
            <a:chOff x="6477120" y="2514600"/>
            <a:chExt cx="1662120" cy="2501640"/>
          </a:xfrm>
        </p:grpSpPr>
        <p:sp>
          <p:nvSpPr>
            <p:cNvPr id="269" name=""/>
            <p:cNvSpPr/>
            <p:nvPr/>
          </p:nvSpPr>
          <p:spPr>
            <a:xfrm>
              <a:off x="6607080" y="2590920"/>
              <a:ext cx="7779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3080" y="251460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21680" y="2590920"/>
              <a:ext cx="77760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20120" y="251460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541920" y="3276720"/>
              <a:ext cx="7797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77120" y="350532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256520" y="3276720"/>
              <a:ext cx="7779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515360" y="358128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480000" y="4495680"/>
              <a:ext cx="163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Hb: </a:t>
              </a:r>
              <a:r>
                <a:rPr b="1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072080" y="2465280"/>
            <a:ext cx="4741920" cy="1328400"/>
            <a:chOff x="1072080" y="2465280"/>
            <a:chExt cx="4741920" cy="1328400"/>
          </a:xfrm>
        </p:grpSpPr>
        <p:sp>
          <p:nvSpPr>
            <p:cNvPr id="279" name=""/>
            <p:cNvSpPr/>
            <p:nvPr/>
          </p:nvSpPr>
          <p:spPr>
            <a:xfrm>
              <a:off x="1072080" y="2760480"/>
              <a:ext cx="149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Hb-Fe</a:t>
              </a:r>
              <a:r>
                <a:rPr b="1" lang="en-US" sz="3600" spc="-1" strike="noStrike" baseline="30000">
                  <a:solidFill>
                    <a:srgbClr val="ffffff"/>
                  </a:solidFill>
                  <a:latin typeface="Arial Narrow"/>
                  <a:ea typeface="华文新魏"/>
                </a:rPr>
                <a:t>2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661120" y="3047760"/>
              <a:ext cx="11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86560" y="2852640"/>
              <a:ext cx="19274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HbFe</a:t>
              </a:r>
              <a:r>
                <a:rPr b="1" lang="en-US" sz="3600" spc="-1" strike="noStrike" baseline="30000">
                  <a:solidFill>
                    <a:srgbClr val="ffffff"/>
                  </a:solidFill>
                  <a:latin typeface="Arial Narrow"/>
                  <a:ea typeface="华文新魏"/>
                </a:rPr>
                <a:t>3+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OH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2660760" y="3276360"/>
              <a:ext cx="1045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61560" y="24652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氧化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46520" y="31510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还原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751560" y="3352680"/>
            <a:ext cx="20185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cc9900"/>
                </a:solidFill>
                <a:latin typeface="华文新魏"/>
                <a:ea typeface="华文新魏"/>
              </a:rPr>
              <a:t>（咖啡色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89520" y="1700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原因：亚硝酸盐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24000" y="2781360"/>
          <a:ext cx="8569080" cy="1162080"/>
        </p:xfrm>
        <a:graphic>
          <a:graphicData uri="http://schemas.openxmlformats.org/drawingml/2006/table">
            <a:tbl>
              <a:tblPr/>
              <a:tblGrid>
                <a:gridCol w="1726920"/>
                <a:gridCol w="1081080"/>
                <a:gridCol w="1871640"/>
                <a:gridCol w="1224000"/>
                <a:gridCol w="1152720"/>
                <a:gridCol w="15127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324000" y="3933720"/>
          <a:ext cx="8569080" cy="1162080"/>
        </p:xfrm>
        <a:graphic>
          <a:graphicData uri="http://schemas.openxmlformats.org/drawingml/2006/table">
            <a:tbl>
              <a:tblPr/>
              <a:tblGrid>
                <a:gridCol w="1726920"/>
                <a:gridCol w="1095480"/>
                <a:gridCol w="1857240"/>
                <a:gridCol w="1224000"/>
                <a:gridCol w="1152720"/>
                <a:gridCol w="15127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324000" y="1557360"/>
          <a:ext cx="8569080" cy="1231920"/>
        </p:xfrm>
        <a:graphic>
          <a:graphicData uri="http://schemas.openxmlformats.org/drawingml/2006/table">
            <a:tbl>
              <a:tblPr/>
              <a:tblGrid>
                <a:gridCol w="1709640"/>
                <a:gridCol w="1139760"/>
                <a:gridCol w="1851120"/>
                <a:gridCol w="1230120"/>
                <a:gridCol w="1131840"/>
                <a:gridCol w="150660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-V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华文新魏"/>
                <a:ea typeface="华文新魏"/>
              </a:rPr>
              <a:t>A-VΔCO</a:t>
            </a:r>
            <a:r>
              <a:rPr b="1" i="1" lang="en-US" sz="48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0" lang="en-US" sz="4800" spc="-1" strike="noStrike">
                <a:solidFill>
                  <a:srgbClr val="ffcc66"/>
                </a:solidFill>
                <a:latin typeface="华文新魏"/>
                <a:ea typeface="华文新魏"/>
              </a:rPr>
              <a:t>↓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→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释放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后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降低较快→不能维持血液与细胞间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浓度差→弥散较慢→组织细胞缺氧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380520" y="22096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一）定义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血流量减少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低动力缺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106668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循环性缺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811080"/>
            <a:ext cx="3504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二）原因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24000" y="1707840"/>
            <a:ext cx="7989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全身性</a:t>
            </a: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循环障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36511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局部性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循环障碍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722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40520" y="2597040"/>
            <a:ext cx="389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休克、心力衰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99160" y="4659480"/>
            <a:ext cx="101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血栓、炎症、动脉粥样硬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80880" y="3200400"/>
          <a:ext cx="8458200" cy="820800"/>
        </p:xfrm>
        <a:graphic>
          <a:graphicData uri="http://schemas.openxmlformats.org/drawingml/2006/table">
            <a:tbl>
              <a:tblPr/>
              <a:tblGrid>
                <a:gridCol w="1598760"/>
                <a:gridCol w="1220760"/>
                <a:gridCol w="1447920"/>
                <a:gridCol w="1447560"/>
                <a:gridCol w="1212840"/>
                <a:gridCol w="1530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380880" y="3983040"/>
          <a:ext cx="8458200" cy="893880"/>
        </p:xfrm>
        <a:graphic>
          <a:graphicData uri="http://schemas.openxmlformats.org/drawingml/2006/table">
            <a:tbl>
              <a:tblPr/>
              <a:tblGrid>
                <a:gridCol w="1598760"/>
                <a:gridCol w="1220760"/>
                <a:gridCol w="1447920"/>
                <a:gridCol w="1447560"/>
                <a:gridCol w="1212840"/>
                <a:gridCol w="153036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380880" y="4869000"/>
          <a:ext cx="8439120" cy="1030320"/>
        </p:xfrm>
        <a:graphic>
          <a:graphicData uri="http://schemas.openxmlformats.org/drawingml/2006/table">
            <a:tbl>
              <a:tblPr/>
              <a:tblGrid>
                <a:gridCol w="1702080"/>
                <a:gridCol w="1171440"/>
                <a:gridCol w="1476360"/>
                <a:gridCol w="1476360"/>
                <a:gridCol w="1236600"/>
                <a:gridCol w="13762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循环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395280" y="1916280"/>
          <a:ext cx="8424360" cy="1231560"/>
        </p:xfrm>
        <a:graphic>
          <a:graphicData uri="http://schemas.openxmlformats.org/drawingml/2006/table">
            <a:tbl>
              <a:tblPr/>
              <a:tblGrid>
                <a:gridCol w="1522440"/>
                <a:gridCol w="1311120"/>
                <a:gridCol w="1602720"/>
                <a:gridCol w="1199160"/>
                <a:gridCol w="1265040"/>
                <a:gridCol w="152388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-V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（四）表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毛细血管脱氧血红蛋白↑→发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（心力衰竭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4360" y="3645000"/>
            <a:ext cx="777240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毛细血管血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→苍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（失血性休克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9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4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9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4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94920" y="234936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黑体"/>
                <a:ea typeface="华文新魏"/>
              </a:rPr>
              <a:t>（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一）定义：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华文新魏"/>
              </a:rPr>
              <a:t>组织细胞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利用氧障碍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华文新魏"/>
              </a:rPr>
              <a:t>所引起的缺氧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12193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组织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001240"/>
            <a:ext cx="1126800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耗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量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脉血氧含量—静脉血氧含量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组织血流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79440" y="1125360"/>
            <a:ext cx="5778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供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量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脉血氧含量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组织血流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221000"/>
            <a:ext cx="93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∴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血氧是反映组织供氧及耗氧的重要指标。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4419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（二）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华文新魏"/>
              </a:rPr>
              <a:t>原因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：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4772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4600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中毒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55640" y="2349360"/>
            <a:ext cx="78487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buClr>
                <a:srgbClr val="ffffff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氰化物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: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氰化高铁细胞色素氧化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ffffff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砷化物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:  (-)p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450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; (-)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链辅酶；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(-)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丙酮酸氧化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71640" y="386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线粒体损伤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放射线、细菌毒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4941720"/>
            <a:ext cx="876312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3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呼吸酶合成障碍：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VitB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,B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,PP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缺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250920" y="1125360"/>
          <a:ext cx="8713800" cy="1082520"/>
        </p:xfrm>
        <a:graphic>
          <a:graphicData uri="http://schemas.openxmlformats.org/drawingml/2006/table">
            <a:tbl>
              <a:tblPr/>
              <a:tblGrid>
                <a:gridCol w="1941480"/>
                <a:gridCol w="974520"/>
                <a:gridCol w="1621080"/>
                <a:gridCol w="1414440"/>
                <a:gridCol w="1465200"/>
                <a:gridCol w="1297080"/>
              </a:tblGrid>
              <a:tr h="115416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血氧容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-V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氧含量差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250920" y="2205000"/>
          <a:ext cx="8713800" cy="10303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(o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250920" y="3276720"/>
          <a:ext cx="8713800" cy="8935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250920" y="4151160"/>
          <a:ext cx="8713800" cy="89388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循环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250920" y="4989600"/>
          <a:ext cx="8713800" cy="8935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22360"/>
                <a:gridCol w="13147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组织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(</a:t>
            </a:r>
            <a:r>
              <a:rPr b="0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四）表现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2060640"/>
            <a:ext cx="961236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血液氧合血红蛋白↑→皮肤黏膜玫瑰红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529640" y="6858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混合性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32000" y="1557360"/>
            <a:ext cx="2438640" cy="581400"/>
          </a:xfrm>
          <a:prstGeom prst="rect">
            <a:avLst/>
          </a:prstGeom>
          <a:gradFill rotWithShape="0">
            <a:gsLst>
              <a:gs pos="0">
                <a:srgbClr val="9c7d9c"/>
              </a:gs>
              <a:gs pos="50000">
                <a:srgbClr val="ffccff"/>
              </a:gs>
              <a:gs pos="100000">
                <a:srgbClr val="9c7d9c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失血性休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371600" y="2362320"/>
            <a:ext cx="1676520" cy="1571760"/>
            <a:chOff x="1371600" y="2362320"/>
            <a:chExt cx="1676520" cy="1571760"/>
          </a:xfrm>
        </p:grpSpPr>
        <p:sp>
          <p:nvSpPr>
            <p:cNvPr id="327" name=""/>
            <p:cNvSpPr/>
            <p:nvPr/>
          </p:nvSpPr>
          <p:spPr>
            <a:xfrm>
              <a:off x="1371600" y="3352680"/>
              <a:ext cx="121932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Hb</a:t>
              </a:r>
              <a:r>
                <a:rPr b="1" lang="zh-CN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057400" y="2362320"/>
              <a:ext cx="99072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059280" y="2492280"/>
            <a:ext cx="2663280" cy="1415160"/>
            <a:chOff x="3059280" y="2492280"/>
            <a:chExt cx="2663280" cy="1415160"/>
          </a:xfrm>
        </p:grpSpPr>
        <p:sp>
          <p:nvSpPr>
            <p:cNvPr id="330" name=""/>
            <p:cNvSpPr/>
            <p:nvPr/>
          </p:nvSpPr>
          <p:spPr>
            <a:xfrm>
              <a:off x="3059280" y="3326040"/>
              <a:ext cx="266328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肺淤血、水肿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00480" y="2492280"/>
              <a:ext cx="0" cy="757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796000" y="2205000"/>
            <a:ext cx="2057400" cy="1724400"/>
            <a:chOff x="5796000" y="2205000"/>
            <a:chExt cx="2057400" cy="1724400"/>
          </a:xfrm>
        </p:grpSpPr>
        <p:sp>
          <p:nvSpPr>
            <p:cNvPr id="333" name=""/>
            <p:cNvSpPr/>
            <p:nvPr/>
          </p:nvSpPr>
          <p:spPr>
            <a:xfrm>
              <a:off x="6024600" y="3348000"/>
              <a:ext cx="182880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循环障碍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96000" y="2205000"/>
              <a:ext cx="83808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838080" y="3886200"/>
            <a:ext cx="1752840" cy="1983240"/>
            <a:chOff x="838080" y="3886200"/>
            <a:chExt cx="1752840" cy="1983240"/>
          </a:xfrm>
        </p:grpSpPr>
        <p:sp>
          <p:nvSpPr>
            <p:cNvPr id="336" name=""/>
            <p:cNvSpPr/>
            <p:nvPr/>
          </p:nvSpPr>
          <p:spPr>
            <a:xfrm>
              <a:off x="1752480" y="388620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38080" y="4800600"/>
              <a:ext cx="175284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血液性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3276720" y="506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203640" y="3933720"/>
            <a:ext cx="1981080" cy="1924560"/>
            <a:chOff x="3203640" y="3933720"/>
            <a:chExt cx="1981080" cy="1924560"/>
          </a:xfrm>
        </p:grpSpPr>
        <p:sp>
          <p:nvSpPr>
            <p:cNvPr id="340" name=""/>
            <p:cNvSpPr/>
            <p:nvPr/>
          </p:nvSpPr>
          <p:spPr>
            <a:xfrm>
              <a:off x="4194000" y="3933720"/>
              <a:ext cx="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03640" y="4789440"/>
              <a:ext cx="198108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低张性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156360" y="3860640"/>
            <a:ext cx="2133720" cy="1983240"/>
            <a:chOff x="6156360" y="3860640"/>
            <a:chExt cx="2133720" cy="1983240"/>
          </a:xfrm>
        </p:grpSpPr>
        <p:sp>
          <p:nvSpPr>
            <p:cNvPr id="343" name=""/>
            <p:cNvSpPr/>
            <p:nvPr/>
          </p:nvSpPr>
          <p:spPr>
            <a:xfrm>
              <a:off x="6842160" y="386064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56360" y="4775040"/>
              <a:ext cx="213372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循环性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042920" y="765000"/>
            <a:ext cx="7239240" cy="246888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第三节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缺氧对机体的影响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403280" y="342900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代偿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轻度、慢性</a:t>
            </a: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03280" y="429264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损伤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重度、急性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03280" y="342900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代偿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轻度、慢性</a:t>
            </a: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82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呼吸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循环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血液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中枢神经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组织细胞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905120"/>
            <a:ext cx="640080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华文新魏"/>
                <a:ea typeface="华文新魏"/>
              </a:rPr>
              <a:t>一、呼吸系统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676520" y="3808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代偿性反应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76920" y="2590920"/>
            <a:ext cx="4267080" cy="3073680"/>
          </a:xfrm>
          <a:prstGeom prst="rect">
            <a:avLst/>
          </a:prstGeom>
          <a:noFill/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意义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提高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回心血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弥散面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28800" y="1447920"/>
            <a:ext cx="22860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4b1b1"/>
              </a:gs>
              <a:gs pos="50000">
                <a:srgbClr val="a7ffff"/>
              </a:gs>
              <a:gs pos="100000">
                <a:srgbClr val="74b1b1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PaO</a:t>
            </a:r>
            <a:r>
              <a:rPr b="1" lang="en-US" sz="2800" spc="-1" strike="noStrike" baseline="-25000">
                <a:solidFill>
                  <a:srgbClr val="000044"/>
                </a:solidFill>
                <a:latin typeface="Arial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(&lt;60mmH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371600" y="2286000"/>
            <a:ext cx="3124080" cy="1371600"/>
            <a:chOff x="1371600" y="2286000"/>
            <a:chExt cx="3124080" cy="1371600"/>
          </a:xfrm>
        </p:grpSpPr>
        <p:sp>
          <p:nvSpPr>
            <p:cNvPr id="356" name=""/>
            <p:cNvSpPr/>
            <p:nvPr/>
          </p:nvSpPr>
          <p:spPr>
            <a:xfrm>
              <a:off x="1371600" y="2819160"/>
              <a:ext cx="3124080" cy="83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4b1b1"/>
                </a:gs>
                <a:gs pos="50000">
                  <a:srgbClr val="a7ffff"/>
                </a:gs>
                <a:gs pos="100000">
                  <a:srgbClr val="74b1b1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颈动脉体、主动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脉体化学感受器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895480" y="2286000"/>
              <a:ext cx="228600" cy="533160"/>
            </a:xfrm>
            <a:prstGeom prst="downArrow">
              <a:avLst>
                <a:gd name="adj1" fmla="val 50000"/>
                <a:gd name="adj2" fmla="val 58307"/>
              </a:avLst>
            </a:prstGeom>
            <a:gradFill rotWithShape="0">
              <a:gsLst>
                <a:gs pos="0">
                  <a:srgbClr val="74b1b1"/>
                </a:gs>
                <a:gs pos="50000">
                  <a:srgbClr val="a7ffff"/>
                </a:gs>
                <a:gs pos="100000">
                  <a:srgbClr val="74b1b1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662120" y="4952880"/>
            <a:ext cx="2666880" cy="1447920"/>
            <a:chOff x="1662120" y="4952880"/>
            <a:chExt cx="2666880" cy="1447920"/>
          </a:xfrm>
        </p:grpSpPr>
        <p:sp>
          <p:nvSpPr>
            <p:cNvPr id="359" name=""/>
            <p:cNvSpPr/>
            <p:nvPr/>
          </p:nvSpPr>
          <p:spPr>
            <a:xfrm>
              <a:off x="1662120" y="5486400"/>
              <a:ext cx="266688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9a987"/>
                </a:gs>
                <a:gs pos="50000">
                  <a:srgbClr val="ffffcc"/>
                </a:gs>
                <a:gs pos="100000">
                  <a:srgbClr val="a9a987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呼吸运动↑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肺泡通气量↑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95480" y="4952880"/>
              <a:ext cx="228600" cy="533520"/>
            </a:xfrm>
            <a:prstGeom prst="downArrow">
              <a:avLst>
                <a:gd name="adj1" fmla="val 50000"/>
                <a:gd name="adj2" fmla="val 58346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676520" y="3733920"/>
            <a:ext cx="2666880" cy="1156680"/>
            <a:chOff x="1676520" y="3733920"/>
            <a:chExt cx="2666880" cy="1156680"/>
          </a:xfrm>
        </p:grpSpPr>
        <p:sp>
          <p:nvSpPr>
            <p:cNvPr id="362" name=""/>
            <p:cNvSpPr/>
            <p:nvPr/>
          </p:nvSpPr>
          <p:spPr>
            <a:xfrm>
              <a:off x="1676520" y="4281480"/>
              <a:ext cx="2666880" cy="609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9a987"/>
                </a:gs>
                <a:gs pos="50000">
                  <a:srgbClr val="ffffcc"/>
                </a:gs>
                <a:gs pos="100000">
                  <a:srgbClr val="a9a987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呼吸中枢兴奋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95480" y="3733920"/>
              <a:ext cx="228600" cy="533160"/>
            </a:xfrm>
            <a:prstGeom prst="downArrow">
              <a:avLst>
                <a:gd name="adj1" fmla="val 50000"/>
                <a:gd name="adj2" fmla="val 58307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68360" y="1890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损伤性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1125360"/>
            <a:ext cx="850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急性严重低张性缺氧</a:t>
            </a:r>
            <a:r>
              <a:rPr b="1" lang="zh-CN" sz="4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急性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肺水肿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75760" y="3284640"/>
            <a:ext cx="6766200" cy="1814400"/>
            <a:chOff x="275760" y="3284640"/>
            <a:chExt cx="6766200" cy="1814400"/>
          </a:xfrm>
        </p:grpSpPr>
        <p:sp>
          <p:nvSpPr>
            <p:cNvPr id="367" name=""/>
            <p:cNvSpPr/>
            <p:nvPr/>
          </p:nvSpPr>
          <p:spPr>
            <a:xfrm>
              <a:off x="275760" y="32846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ffff"/>
                  </a:solidFill>
                  <a:latin typeface="Times New Roman"/>
                  <a:ea typeface="华文新魏"/>
                </a:rPr>
                <a:t>机制：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6720" y="3981240"/>
              <a:ext cx="66452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20000"/>
                </a:lnSpc>
                <a:buClr>
                  <a:srgbClr val="ffffff"/>
                </a:buClr>
                <a:buFont typeface="华文新魏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肺动脉高压；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buClr>
                  <a:srgbClr val="ffffff"/>
                </a:buClr>
                <a:buFont typeface="华文新魏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肺泡</a:t>
              </a: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-cap</a:t>
              </a: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膜通透性</a:t>
              </a:r>
              <a:r>
                <a:rPr b="0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0" y="1773360"/>
            <a:ext cx="7740720" cy="18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2.Pa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&lt;30mmHg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→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抑制呼吸中枢→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中枢性呼吸衰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3753000" y="4984920"/>
            <a:ext cx="53910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000"/>
                            </p:stCondLst>
                            <p:childTnLst>
                              <p:par>
                                <p:cTn id="7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66680" y="2286000"/>
            <a:ext cx="693432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循环系统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1143000"/>
            <a:ext cx="4800600" cy="1219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华文新魏"/>
              </a:rPr>
              <a:t>第一节 常用的血氧指标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066680" y="106668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代偿性反应</a:t>
            </a: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华文新魏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62120" y="259092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率加快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肺通气</a:t>
            </a:r>
            <a:r>
              <a:rPr b="1" lang="zh-CN" sz="3600" spc="-1" strike="noStrike">
                <a:solidFill>
                  <a:srgbClr val="ccffff"/>
                </a:solidFill>
                <a:latin typeface="Symbol"/>
                <a:ea typeface="Symbol"/>
              </a:rPr>
              <a:t>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，刺激牵张感受器 </a:t>
            </a:r>
            <a:r>
              <a:rPr b="1" lang="zh-CN" sz="3600" spc="-1" strike="noStrike">
                <a:solidFill>
                  <a:srgbClr val="ccffff"/>
                </a:solidFill>
                <a:latin typeface="Symbol"/>
                <a:ea typeface="Symbol"/>
              </a:rPr>
              <a:t>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交感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N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肌收缩性增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静脉回流量增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8360" y="190512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心输出量增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1020600" cy="4446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4643280" y="206064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提高全身组织供血供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50920" y="765000"/>
            <a:ext cx="42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2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流重新分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8360" y="1844640"/>
            <a:ext cx="8856720" cy="32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 2"/>
                <a:ea typeface="Wingdings 2"/>
              </a:rPr>
              <a:t>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交感兴奋</a:t>
            </a:r>
            <a:r>
              <a:rPr b="1" lang="zh-CN" sz="3600" spc="-1" strike="noStrike">
                <a:solidFill>
                  <a:srgbClr val="ffccff"/>
                </a:solidFill>
                <a:latin typeface="Symbol"/>
                <a:ea typeface="Symbol"/>
              </a:rPr>
              <a:t>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皮肤、骨骼肌、内脏血管收缩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 2"/>
                <a:ea typeface="Wingdings 2"/>
              </a:rPr>
              <a:t>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乳酸、腺苷、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PGI</a:t>
            </a:r>
            <a:r>
              <a:rPr b="1" lang="zh-CN" sz="3600" spc="-1" strike="noStrike" baseline="-25000">
                <a:solidFill>
                  <a:srgbClr val="ffcc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等</a:t>
            </a:r>
            <a:r>
              <a:rPr b="1" lang="zh-CN" sz="3200" spc="-1" strike="noStrike">
                <a:solidFill>
                  <a:srgbClr val="ffcc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、脑血管扩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43280" y="105264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保证重要器官供血供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219320" y="4495680"/>
            <a:ext cx="6933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4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毛细血管增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066680" y="762120"/>
            <a:ext cx="3649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3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肺血管收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538280"/>
            <a:ext cx="6096240" cy="30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交感神经的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液因素：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TXA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T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GI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NO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平滑肌膜电位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59280" y="5300640"/>
            <a:ext cx="8458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增加血氧弥散面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84720" y="105264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利于维持适当通气∕血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187280" y="263700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肌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律失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184464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肺动脉高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16000" y="4437000"/>
            <a:ext cx="41036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外周血管扩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幅度降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9640" y="69228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二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)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损伤性变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481720" y="4869000"/>
            <a:ext cx="283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回心血量</a:t>
            </a:r>
            <a:r>
              <a:rPr b="1" lang="zh-CN" sz="3600" spc="-1" strike="noStrike">
                <a:solidFill>
                  <a:srgbClr val="ffffff"/>
                </a:solidFill>
                <a:latin typeface="Symbol"/>
                <a:ea typeface="Symbol"/>
              </a:rPr>
              <a:t>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BP </a:t>
            </a:r>
            <a:r>
              <a:rPr b="1" lang="zh-CN" sz="36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572000" y="465300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526720" y="2572200"/>
            <a:ext cx="1979640" cy="994320"/>
          </a:xfrm>
          <a:prstGeom prst="ellipse">
            <a:avLst/>
          </a:prstGeom>
          <a:gradFill rotWithShape="0">
            <a:gsLst>
              <a:gs pos="0">
                <a:srgbClr val="2f7517"/>
              </a:gs>
              <a:gs pos="50000">
                <a:srgbClr val="66ff33"/>
              </a:gs>
              <a:gs pos="100000">
                <a:srgbClr val="2f75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心力衰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500"/>
                            </p:stCondLst>
                            <p:childTnLst>
                              <p:par>
                                <p:cTn id="8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95280" y="2286000"/>
            <a:ext cx="6477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血液系统的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685800" y="18288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RBC↑  Hb 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762120" y="2514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华文新魏"/>
                <a:ea typeface="华文新魏"/>
              </a:rPr>
              <a:t>急性缺氧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交感神经兴奋，血液重分布→肝、脾储血释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570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华文新魏"/>
                <a:ea typeface="华文新魏"/>
              </a:rPr>
              <a:t>慢性缺氧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肾脏→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PO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→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髓造血加强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90720" y="7621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一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代偿性反应</a:t>
            </a:r>
            <a:r>
              <a:rPr b="0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46483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RBC</a:t>
            </a: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过多，组织血流量</a:t>
            </a:r>
            <a:r>
              <a:rPr b="1" lang="zh-CN" sz="3600" spc="-1" strike="noStrike">
                <a:solidFill>
                  <a:srgbClr val="ffcc66"/>
                </a:solidFill>
                <a:latin typeface="Symbol"/>
                <a:ea typeface="Symbol"/>
              </a:rPr>
              <a:t></a:t>
            </a: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，失去代偿意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03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08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氧离曲线右移→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释放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O</a:t>
            </a:r>
            <a:r>
              <a:rPr b="1" lang="zh-CN" sz="3600" spc="-1" strike="noStrike" baseline="-25000">
                <a:solidFill>
                  <a:srgbClr val="66ff33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3-DPG 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279440" y="302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00000" y="2852640"/>
            <a:ext cx="7620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Pa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&lt;60mmHg , Hb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与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结合受阻，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S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cc66"/>
                </a:solidFill>
                <a:latin typeface="Symbol"/>
                <a:ea typeface="Symbol"/>
              </a:rPr>
              <a:t>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, 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失去代偿意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9480" y="1981080"/>
            <a:ext cx="8534520" cy="38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轻度缺氧或缺氧早期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流重新分布保证脑的血流供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重度缺氧或缺氧中、晚期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功能障碍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水肿（细胞、间质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细胞受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33520" y="762120"/>
            <a:ext cx="7848360" cy="1009440"/>
            <a:chOff x="533520" y="762120"/>
            <a:chExt cx="7848360" cy="1009440"/>
          </a:xfrm>
        </p:grpSpPr>
        <p:sp>
          <p:nvSpPr>
            <p:cNvPr id="405" name=""/>
            <p:cNvSpPr/>
            <p:nvPr/>
          </p:nvSpPr>
          <p:spPr>
            <a:xfrm>
              <a:off x="533520" y="762120"/>
              <a:ext cx="6933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四、中枢神经系统的 变化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7315200" y="914400"/>
              <a:ext cx="1066680" cy="857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676520" y="1905120"/>
            <a:ext cx="640080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五、组织细胞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684360" y="54936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代偿性反应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4000" y="1484280"/>
            <a:ext cx="83055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细胞利用氧能力↑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线粒体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↑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酶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糖酵解↑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磷酸果糖激酶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+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肌红蛋白↑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与氧的亲和力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低代谢状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缺氧Hband Mb气离曲线" descr=""/>
          <p:cNvPicPr/>
          <p:nvPr/>
        </p:nvPicPr>
        <p:blipFill>
          <a:blip r:embed="rId1"/>
          <a:stretch/>
        </p:blipFill>
        <p:spPr>
          <a:xfrm>
            <a:off x="395280" y="1143000"/>
            <a:ext cx="8153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0920" y="838080"/>
            <a:ext cx="8208720" cy="7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血氧分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PO</a:t>
            </a:r>
            <a:r>
              <a:rPr b="0" lang="zh-CN" sz="3200" spc="-1" strike="noStrike" baseline="-30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8000" y="3716280"/>
            <a:ext cx="2728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3716280"/>
            <a:ext cx="6443640" cy="22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吸入气体氧分压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aO</a:t>
            </a:r>
            <a:r>
              <a:rPr b="1" lang="zh-CN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呼吸的功能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aO</a:t>
            </a:r>
            <a:r>
              <a:rPr b="1" lang="zh-CN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呼吸状况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v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O</a:t>
            </a:r>
            <a:r>
              <a:rPr b="0" lang="zh-CN" sz="3200" spc="-1" strike="noStrike" baseline="-30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1916280"/>
            <a:ext cx="8748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溶解于血液中的氧所产生的张力。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924280"/>
            <a:ext cx="8713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100mmHg /  Pv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40mmH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838080" y="11430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)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损伤性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43000" y="4648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溶酶体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95280" y="2209680"/>
            <a:ext cx="57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细胞膜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87280" y="357336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线粒体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73840" y="2923200"/>
            <a:ext cx="45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①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Na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流↑②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K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流↑③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Ca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2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流↑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9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539640" y="6019920"/>
            <a:ext cx="84376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1463760" y="5958000"/>
            <a:ext cx="5225760" cy="886680"/>
            <a:chOff x="1463760" y="5958000"/>
            <a:chExt cx="5225760" cy="886680"/>
          </a:xfrm>
        </p:grpSpPr>
        <p:sp>
          <p:nvSpPr>
            <p:cNvPr id="418" name=""/>
            <p:cNvSpPr/>
            <p:nvPr/>
          </p:nvSpPr>
          <p:spPr>
            <a:xfrm>
              <a:off x="1463760" y="5958000"/>
              <a:ext cx="301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Na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、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Ca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2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内流，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K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外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286600" y="596124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细胞膜通透性</a:t>
              </a:r>
              <a:r>
                <a:rPr b="1" lang="zh-CN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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765080" y="629280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线粒体损伤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71840" y="63849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溶酶体损伤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54380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0880" y="1219320"/>
            <a:ext cx="8458200" cy="198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第四节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缺氧治疗的病理生理学基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228600" y="762120"/>
            <a:ext cx="83041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一、去除病因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二、吸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1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低张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 :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疗效最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2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血液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3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循环性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4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组织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7162920" y="4114800"/>
            <a:ext cx="111600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500"/>
                            </p:stCondLst>
                            <p:childTnLst>
                              <p:par>
                                <p:cTn id="10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200400" y="603396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veres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0" y="907920"/>
          <a:ext cx="91440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7596360" y="1125360"/>
          <a:ext cx="1379520" cy="164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125360"/>
                    <a:ext cx="137952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2136600" y="1628640"/>
            <a:ext cx="1073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iO</a:t>
            </a:r>
            <a:r>
              <a:rPr b="1" lang="en-US" sz="36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23880" y="1628640"/>
            <a:ext cx="1175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aO</a:t>
            </a:r>
            <a:r>
              <a:rPr b="1" lang="en-US" sz="36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92360" y="1844640"/>
            <a:ext cx="648000" cy="216000"/>
          </a:xfrm>
          <a:prstGeom prst="rightArrow">
            <a:avLst>
              <a:gd name="adj1" fmla="val 50000"/>
              <a:gd name="adj2" fmla="val 75000"/>
            </a:avLst>
          </a:pr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108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64000" y="1773360"/>
            <a:ext cx="144720" cy="360360"/>
          </a:xfrm>
          <a:prstGeom prst="downArrow">
            <a:avLst>
              <a:gd name="adj1" fmla="val 50000"/>
              <a:gd name="adj2" fmla="val 62251"/>
            </a:avLst>
          </a:prstGeom>
          <a:solidFill>
            <a:srgbClr val="ffff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3640" y="177336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solidFill>
            <a:srgbClr val="ffff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780000" y="3284640"/>
          <a:ext cx="1584000" cy="225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0000" y="3284640"/>
                    <a:ext cx="158400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>
            <a:hlinkClick r:id="rId7" action="ppaction://hlinksldjump"/>
          </p:cNvPr>
          <p:cNvSpPr/>
          <p:nvPr/>
        </p:nvSpPr>
        <p:spPr>
          <a:xfrm>
            <a:off x="8172360" y="595008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7376" y="10800"/>
                </a:moveTo>
                <a:lnTo>
                  <a:pt x="21388" y="3794"/>
                </a:lnTo>
                <a:lnTo>
                  <a:pt x="21388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0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494172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59280" y="508464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质和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905120"/>
            <a:ext cx="8294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100 ml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液中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被氧充分饱和时的最大带氧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609480"/>
            <a:ext cx="5943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血氧容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CO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max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3500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反映血液携带氧的能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4149720"/>
            <a:ext cx="5184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34ml/g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15g/dl=20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4000" y="1916280"/>
            <a:ext cx="81388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100ml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液的实际携氧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32000" y="4508640"/>
            <a:ext cx="4880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质和量；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P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443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868320"/>
            <a:ext cx="4495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血氧含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CO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3560" y="3429000"/>
            <a:ext cx="6203160" cy="9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19ml/dl 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V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14ml/d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95800" y="2852640"/>
            <a:ext cx="460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溶解氧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0.3ml/dl)+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结合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8380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静脉血氧含量差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(A-V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651528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651528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35053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9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5053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4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33920" y="5410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267080"/>
            <a:ext cx="7238880" cy="609840"/>
          </a:xfrm>
          <a:prstGeom prst="rect">
            <a:avLst/>
          </a:prstGeom>
          <a:gradFill rotWithShape="0">
            <a:gsLst>
              <a:gs pos="0">
                <a:srgbClr val="76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095880" y="4876920"/>
            <a:ext cx="1447560" cy="609480"/>
            <a:chOff x="6095880" y="4876920"/>
            <a:chExt cx="1447560" cy="609480"/>
          </a:xfrm>
        </p:grpSpPr>
        <p:sp>
          <p:nvSpPr>
            <p:cNvPr id="132" name=""/>
            <p:cNvSpPr/>
            <p:nvPr/>
          </p:nvSpPr>
          <p:spPr>
            <a:xfrm>
              <a:off x="609588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0044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72000" y="4876920"/>
            <a:ext cx="1447560" cy="609480"/>
            <a:chOff x="4572000" y="4876920"/>
            <a:chExt cx="1447560" cy="609480"/>
          </a:xfrm>
        </p:grpSpPr>
        <p:sp>
          <p:nvSpPr>
            <p:cNvPr id="135" name=""/>
            <p:cNvSpPr/>
            <p:nvPr/>
          </p:nvSpPr>
          <p:spPr>
            <a:xfrm>
              <a:off x="457200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7656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048120" y="4876920"/>
            <a:ext cx="1447560" cy="609480"/>
            <a:chOff x="3048120" y="4876920"/>
            <a:chExt cx="1447560" cy="609480"/>
          </a:xfrm>
        </p:grpSpPr>
        <p:sp>
          <p:nvSpPr>
            <p:cNvPr id="138" name=""/>
            <p:cNvSpPr/>
            <p:nvPr/>
          </p:nvSpPr>
          <p:spPr>
            <a:xfrm>
              <a:off x="304812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5268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523880" y="4876920"/>
            <a:ext cx="1447560" cy="609480"/>
            <a:chOff x="1523880" y="4876920"/>
            <a:chExt cx="1447560" cy="609480"/>
          </a:xfrm>
        </p:grpSpPr>
        <p:sp>
          <p:nvSpPr>
            <p:cNvPr id="141" name=""/>
            <p:cNvSpPr/>
            <p:nvPr/>
          </p:nvSpPr>
          <p:spPr>
            <a:xfrm>
              <a:off x="152388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2844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981080" y="4343400"/>
            <a:ext cx="609840" cy="914400"/>
            <a:chOff x="1981080" y="4343400"/>
            <a:chExt cx="609840" cy="914400"/>
          </a:xfrm>
        </p:grpSpPr>
        <p:sp>
          <p:nvSpPr>
            <p:cNvPr id="144" name=""/>
            <p:cNvSpPr/>
            <p:nvPr/>
          </p:nvSpPr>
          <p:spPr>
            <a:xfrm>
              <a:off x="1981080" y="4343400"/>
              <a:ext cx="60984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0968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362320" y="4343400"/>
            <a:ext cx="609480" cy="914400"/>
            <a:chOff x="2362320" y="4343400"/>
            <a:chExt cx="609480" cy="914400"/>
          </a:xfrm>
        </p:grpSpPr>
        <p:sp>
          <p:nvSpPr>
            <p:cNvPr id="147" name=""/>
            <p:cNvSpPr/>
            <p:nvPr/>
          </p:nvSpPr>
          <p:spPr>
            <a:xfrm>
              <a:off x="2362320" y="434340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9056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505320" y="4343400"/>
            <a:ext cx="609480" cy="914400"/>
            <a:chOff x="3505320" y="4343400"/>
            <a:chExt cx="609480" cy="914400"/>
          </a:xfrm>
        </p:grpSpPr>
        <p:sp>
          <p:nvSpPr>
            <p:cNvPr id="150" name=""/>
            <p:cNvSpPr/>
            <p:nvPr/>
          </p:nvSpPr>
          <p:spPr>
            <a:xfrm>
              <a:off x="3505320" y="434340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3356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851280" y="4292640"/>
            <a:ext cx="609480" cy="914400"/>
            <a:chOff x="3851280" y="4292640"/>
            <a:chExt cx="609480" cy="914400"/>
          </a:xfrm>
        </p:grpSpPr>
        <p:sp>
          <p:nvSpPr>
            <p:cNvPr id="153" name=""/>
            <p:cNvSpPr/>
            <p:nvPr/>
          </p:nvSpPr>
          <p:spPr>
            <a:xfrm>
              <a:off x="3851280" y="429264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79520" y="474984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181480" y="4343400"/>
            <a:ext cx="609840" cy="914400"/>
            <a:chOff x="5181480" y="4343400"/>
            <a:chExt cx="609840" cy="914400"/>
          </a:xfrm>
        </p:grpSpPr>
        <p:sp>
          <p:nvSpPr>
            <p:cNvPr id="156" name=""/>
            <p:cNvSpPr/>
            <p:nvPr/>
          </p:nvSpPr>
          <p:spPr>
            <a:xfrm>
              <a:off x="5181480" y="4343400"/>
              <a:ext cx="60984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1008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28600" y="4191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010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1773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动脉血氧含量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-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静脉血氧含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58320" y="24210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反映组织对氧的摄取和利用能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971640" y="2852640"/>
            <a:ext cx="7619400" cy="1496160"/>
            <a:chOff x="971640" y="2852640"/>
            <a:chExt cx="7619400" cy="1496160"/>
          </a:xfrm>
        </p:grpSpPr>
        <p:sp>
          <p:nvSpPr>
            <p:cNvPr id="163" name=""/>
            <p:cNvSpPr/>
            <p:nvPr/>
          </p:nvSpPr>
          <p:spPr>
            <a:xfrm>
              <a:off x="1199880" y="2852640"/>
              <a:ext cx="5638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380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血氧含量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-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溶解的氧量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2" marL="380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血氧容量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480" y="3494160"/>
              <a:ext cx="5562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14880" y="315756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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</a:rPr>
                <a:t>100%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71640" y="3189240"/>
              <a:ext cx="456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50920" y="4292640"/>
            <a:ext cx="4495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1628640"/>
            <a:ext cx="7238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Hb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与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氧结合的百分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609480"/>
            <a:ext cx="533412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血氧饱和度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S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2T09:31:38Z</dcterms:created>
  <dc:creator>赵振海</dc:creator>
  <dc:description/>
  <dc:language>en-US</dc:language>
  <cp:lastModifiedBy>hzg</cp:lastModifiedBy>
  <cp:lastPrinted>2002-05-25T02:59:57Z</cp:lastPrinted>
  <dcterms:modified xsi:type="dcterms:W3CDTF">2014-04-22T02:36:32Z</dcterms:modified>
  <cp:revision>306</cp:revision>
  <dc:subject/>
  <dc:title>没有幻灯片标题</dc:title>
</cp:coreProperties>
</file>